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15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8.png" ContentType="image/png"/>
  <Override PartName="/ppt/media/image14.jpeg" ContentType="image/jpeg"/>
  <Override PartName="/ppt/media/image9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</p:sldMasterIdLst>
  <p:sldIdLst>
    <p:sldId id="256" r:id="rId22"/>
    <p:sldId id="257" r:id="rId23"/>
    <p:sldId id="258" r:id="rId24"/>
    <p:sldId id="259" r:id="rId25"/>
    <p:sldId id="260" r:id="rId26"/>
    <p:sldId id="261" r:id="rId27"/>
    <p:sldId id="262" r:id="rId28"/>
    <p:sldId id="263" r:id="rId29"/>
    <p:sldId id="264" r:id="rId30"/>
    <p:sldId id="265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" Target="slides/slide1.xml"/><Relationship Id="rId23" Type="http://schemas.openxmlformats.org/officeDocument/2006/relationships/slide" Target="slides/slide2.xml"/><Relationship Id="rId24" Type="http://schemas.openxmlformats.org/officeDocument/2006/relationships/slide" Target="slides/slide3.xml"/><Relationship Id="rId25" Type="http://schemas.openxmlformats.org/officeDocument/2006/relationships/slide" Target="slides/slide4.xml"/><Relationship Id="rId26" Type="http://schemas.openxmlformats.org/officeDocument/2006/relationships/slide" Target="slides/slide5.xml"/><Relationship Id="rId27" Type="http://schemas.openxmlformats.org/officeDocument/2006/relationships/slide" Target="slides/slide6.xml"/><Relationship Id="rId28" Type="http://schemas.openxmlformats.org/officeDocument/2006/relationships/slide" Target="slides/slide7.xml"/><Relationship Id="rId29" Type="http://schemas.openxmlformats.org/officeDocument/2006/relationships/slide" Target="slides/slide8.xml"/><Relationship Id="rId30" Type="http://schemas.openxmlformats.org/officeDocument/2006/relationships/slide" Target="slides/slide9.xml"/><Relationship Id="rId31" Type="http://schemas.openxmlformats.org/officeDocument/2006/relationships/slide" Target="slides/slide10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682B0-9AA1-42E9-8D1B-A24415015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39E1F-B70D-46A9-8E84-FB74F399F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5CF4679-5C5B-4758-9457-DECCE7882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CBA7736-F39E-490B-9329-52C62FB7B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9DEBB2A-1B9A-48AF-BC34-0D6670161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E2D18B6-6F9C-4DCA-B4E1-BBF2A29B9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11108C7-399C-4C8A-A3AC-E339370C2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3C3CE85-A27D-4B27-95F3-8BD8B299B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AEB4D7B-0570-438A-B6AF-EB3AD6391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E599F26-9645-4CA1-AABB-3B8AEC240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C97E682-05CE-4A9D-9CF4-7D7134D38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AAC64F-EFD8-4AB0-AFDC-4DCAD5E72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381F7-4969-40DA-8EE3-6D7952E0B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73FA68-5592-4196-ADFC-4F898073A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7B76F3-5FBC-489D-A6EA-64D546CF6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0C1320-5358-47B7-9571-0ACF38098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C29E56-E403-4428-8DB8-7E2899FBB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75527C-6ACE-4CF6-98EA-018B38E09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C0D96F-B72D-4A57-938C-ACBD14B56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42A833-3E02-4235-87D0-483416B0B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9678DD-922E-465F-A4BE-8CEBC3AEA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A212A8-55C1-490D-83EE-292229FAC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D4F8A8-0CE6-40D6-9F3A-5D76CEACC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522E4-EB7B-4F9E-B1C8-2D0FAA153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8B5D27-7015-4F38-899C-E87E8E0B9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E8CD10-E480-4EF8-9EC8-694B85ACD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F4F8E6-D6CE-4F95-AF9A-A891B9ECC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27545B-4DF2-4F91-8293-5031537C4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0BC500-B863-4164-96EC-108D4A5A9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9B3526-152E-4D98-A35A-485BE24F7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A7F494-71F6-4DA5-A53F-EEF72A8E6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E4E768-B30B-4FC7-A7CF-BFD95CA07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A42249-F963-4243-B760-E6E237B2F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5E5E0D-2CF9-4A97-9B50-99DEF33EF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3B5C1-E4AA-4057-A7B0-47E035CF5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FAEF1B-BB9B-4D7F-AF70-EA1388938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7EE0F1-4FAF-45D2-B9C6-6A7C64368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AFF152-34B3-490D-AB0E-3631C013E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A24762-A19E-4B34-B8D4-F26EFD85E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50E291-F3F4-4166-9217-1C64352AC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F1BAD7-070B-4740-AB70-549840AB4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8180A9-434A-4C2B-BDDE-2BB00A7B3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7C2D04-DB78-4D6E-AEE7-732806A3F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01A87B-2823-4963-91DA-9071C2E8D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6A2EFC-64A8-4BC4-A5F5-365D3EC02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56621-61C9-480A-B0C8-FA35ACF70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B3EA5F-3DDC-4EFE-810E-E4833751A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C1503C-AA00-4124-A11D-B6BA5AA8F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B786A0-A4A4-4323-B9BC-4C00F7126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71FEB5-FFF9-4FF4-99FB-6A9EB1F29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9BECB7-5BE7-4A21-A7E1-9DB7A8508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122FD5F-B3FF-4E18-84B9-371529947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F7B6142-735B-4B1E-B924-821082BCF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9572BF3-5C27-4C21-AB32-54F3F7C9C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2178C70-06AB-4AC3-9245-1E161423C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1A830D5-F3D4-4B05-AE18-7C5E278AD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E2336-3B13-4731-929C-5E2B2D175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14202E0-0705-4439-9C53-3561A5C29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5EFBAE8-99CF-4F50-BC6B-A445DC614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C66B6AC-3C01-402B-B1C5-F49F04941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A2FFA27-86F9-409F-90EF-5CCF443B2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CB185B2-7F83-45F8-A787-7A756F014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4C20202-20C2-4028-9DF9-D85AAD940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FA58FBF-B155-4C3B-8668-C18B6020B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18B31F71-3C42-4076-A124-7AFFC955F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5E5E97BB-AFCB-47DA-B504-CA6E56DD9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6F4256AC-4655-4AC2-A335-7DAA5D3CB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31E17-2CF7-4944-ACE2-EA6AD34BC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AA3355BE-2FAE-4F21-B271-92891F8B3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48C65D81-BFB4-4403-80B3-45B9E71B6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393DC9A2-5559-476C-9038-D1D88580D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DA68BC3E-4D7E-4E01-A82A-DF1A7D2A2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35CF8EC1-2225-4A90-B6E5-52F46A913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26C9AE5A-C21C-4252-956C-A980A6C9A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D2BFFD66-0D63-4A9D-B7E3-C550E2DDC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F99F4600-22A0-4750-997A-CC9F4A74A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84B6767C-FD56-4309-A60E-16E635A2C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42600E1B-2A4F-4ED2-BF37-8B8884FBE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36A49-DEF9-4363-B1DD-DE90042D4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9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873C8703-A1BD-44DD-84CA-17C2AC4C1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8AF04E6A-5D10-4356-9174-D8865DEFB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47D76853-9E65-46FF-A668-847283A41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EECB4ECA-6F43-4A5C-B9E9-E2F2214F0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0C83A4A0-8DDE-4FB1-B0C7-5C7D09F5B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73C35C38-5116-4FF1-AA88-4F1569B35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4C4EA626-9C27-44DA-AB31-56AA98034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F681A89F-AC37-42B2-A7D0-3ECC10DC0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002D9FE5-1917-42B8-8EBD-D06D935A8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E2BBEFB2-CEC0-437D-B008-58293B177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1D2ED-3D5A-4767-8D46-E95CBFD10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3A91890B-D9E8-4967-87F8-036ACB88E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A87A77D-8F35-4CAD-A2A1-2A1FA9D19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5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A30558E-25A7-4FD6-B21E-34392F8F7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905CBD7-959D-4833-8D3D-DD6978014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A7E07FF-1527-4802-95E9-65A822EDE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87A778C-4C31-4B12-AD64-09479E855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6A1DB79-C207-4AAE-8BC0-756CF7FDE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2DF4433-D103-4811-81AB-110F8FF56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E71EF23-231F-4D9D-ADD8-998E40D71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30A7B95-F82E-4F44-979C-8DFABDF4D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86F92-47BF-4A5F-A56B-31873495E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5F3BA13-1644-461E-B171-F58FC6579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A253664-62F3-446E-98B4-AD4201C1C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BF0D112-DDA3-4806-9311-624615EDA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30F12E26-16BA-4564-8539-CDB0A63F9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A8D2474A-E49C-4150-AABE-8C18871B6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4E5FC1A4-4935-4019-896C-EDD179F42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C52BB009-E1BB-41E2-ACD9-C452D31BD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A5020BC1-9DD2-4844-A791-0D68D1A92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A4E9B983-167D-425A-8AF6-4CDEB9CEA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2478B46B-298A-4450-8765-27E008DC9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ECB23-A2A1-44B5-8307-B94A5C7DD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1DEC3-6421-44E4-A16A-7AF270692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A5BBEF6C-36E8-43C4-85A9-097E5B962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8342FC23-6D67-4C34-86C9-8192EF74C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6BBF2086-1266-436A-B78C-091325B8A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D94CADB3-36F7-4952-8C5B-BFB0882B2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EFB2E10A-35F7-4AC5-ADF1-2B2D70C06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FE48CE1-53AF-4835-A561-B5AC4A669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7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B30E9AF-41DD-4C86-82F3-50BE42C79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FB90BE2-B15E-48AB-8A49-DFE8BBF6D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C64DD5F-6BA4-4BF7-9B43-F9D1C9D07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999AE6C-E982-49BB-A700-81D188222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52BE9-E0D4-416A-9228-2204264CA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EFBD27F-658B-4ABF-A88D-95588DDD6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7AC4CCC-6BBE-4E07-9F6D-1E0D08153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72877CA-5591-4976-B3A4-2994A1A91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8B0F934-BA22-4909-986E-9606B3124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94FBB6D-32E0-4DA0-949B-39DC066C0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4B94AFD-15C3-466A-98BB-161F920DC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9A48319-8125-4BB4-8651-C37E3D567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9BFAEDF-596B-4496-8402-E9DC9AE32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5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290D27B-BEBB-4781-B1E9-7E72D40A6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5439647-083C-41AF-9B11-2012C55B0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8C553-1C48-488D-9DDD-FA9953E25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126167A-AFF4-4895-A63A-52A190205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ED34750-DAA6-4D94-9BCF-5004DD976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2842741-95C5-43CC-BEA4-810A93C82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CF55BEF-7BF1-4D80-8EB3-64DB7E91B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C241F34-1AF4-48EE-AB70-4C46B551F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FDDFC41-6C48-4E06-8DCA-3A9A0697D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675DB96-14EB-4CC1-8013-0BB566B46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F166A23-5CFE-4A24-BA63-2222EDEDF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D086F6E-7456-42C6-847F-4D5BE2266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58B499D-A3FD-4184-A097-1BE833B7D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BD70B-6BBA-48D0-AE0E-1DF206710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3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CEFB976-CBCC-4B20-8277-E0752E730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E44677D-B1A0-421B-B2B7-F21E36914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BDA73DB-F736-42A1-BC96-A334DCA4B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D882818-197B-49DF-AE24-A722A87F7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056AD1E-90F7-4480-94DE-0336A9564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C22F557-A644-4886-91B4-0CF45E3D9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15A3A09-78B0-498D-9B21-51745683E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8E32E86-B40E-40AA-AFEF-4BBAF03AC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885B732-1460-4A24-9242-EBF3BFBCE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2842364-15E8-4CD9-953F-6C3B356E1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54AB0-FF88-43AB-B67E-CEDB85ADD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B466AB3-5683-4739-8D31-E1FC5C7FD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537D55-6858-4029-A47E-DC390F1B1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69D674-2CAD-4884-8D82-90A396F47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7E22C5-5E9E-4624-93EB-197CB6F09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61CB2D-13AC-4A98-BFB5-541736E64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DF3680-119C-4161-9867-DFC0E7696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1C8A4-F18C-4FE1-B8F1-A48271C3F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4C9E2A-D215-43DE-9318-D2A3EEB17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FC3355-ED60-471C-B7EA-AE57EC4F1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D8589C-C3B8-45C6-AD34-1A768AABD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0AE891-5E18-4E86-8A6F-1238CC1A2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860C68-2877-43F9-9EEF-F8D123FD5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7DD5FE-5F8C-461D-8A30-AE7A23912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F34D9F-A358-44D2-9FA2-F0743EB56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FCFE2B1-61A9-477D-A3C4-36B3A1747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A7578B5-366A-4FD7-873A-998C91411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8892E64-57B6-470E-BC50-A8A29CC13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B1CA6-ADDA-435E-A54B-5F1BD0515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917FA99-DC4E-4152-A03A-4F6252EE4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9B56E61-D5AC-4826-A3EA-3E19C1D49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CED539E-D6CC-446F-AB8F-0FF69E783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0E6CC3F-5A5F-40D0-BCED-18D58CA25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2AA8EC1-FD67-4FAA-8E37-C3A7BDF21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0898370-606E-4AA9-ABF2-4EA075EE1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1EAFD4D-101B-4E0C-A299-F6956ADDC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E2C14CF-3A69-4966-82BC-D511B4B1B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9BC28C3-6946-4F98-99DF-984C0BC5F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DA21EC-D285-4EA8-9B14-478788A6A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45F43-9F45-448D-8B29-A191F6FEA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2D6DC2-E724-4C82-B7F9-B700F80F0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707809-0110-4068-8FA0-D4F4F5413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F2A92F-542C-4FC1-8655-A899DC4AD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31EEB3-EA4A-44C0-A846-9084628F9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A97DF5-9E97-40FC-BD1B-D9053EA8C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BC8D97-803E-485D-A0E7-1B85D921F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045F42-E642-4357-A2F2-4E1325018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F0A566-DA5A-4EE6-A98F-EC96E2172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797027-ED78-40FC-9B34-6C5277879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4E6085-04C8-441D-9E55-D130A05D8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A8B89-0E6F-42FD-A9FB-52A282B16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80943E-461F-479B-A4DA-A440FB446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0CD2A1-9AA8-4172-8C5F-58B5A0D54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610591-7103-4ED9-A17F-1E00FDF60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F56573-17BC-4CB6-A460-DA438197F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EC3ED1-C638-4058-A0EE-7BAF46828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3B78D5-BF3E-4D8E-BA83-2CAC79989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699171-2AC3-4CCD-B279-F37DB5E40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A663B5-1AB0-4F3F-A295-EFF10BB35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29A861-E173-42C9-9646-61568CFB4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9F55F1-C31A-44BA-9993-9A4CD2478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FE6C7-0E7B-4954-B8E7-74FFA2303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C9B9E9-CD4E-4350-9A4E-1A8E72774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8070AA-003D-492A-B0ED-AFDC0BC12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95F170-5916-4F88-91B5-0582D39E3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44B1E6-16C9-4E11-B71B-819BC9ED8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1E5FF6-C1FA-4490-B7BE-2CC7E1585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720211-7EE6-45AD-83A2-01E1EE1AC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694E25-68A0-4018-9731-569902C38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B27F9B-57B7-4377-AEA1-3E5666DC9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4EA743-D83A-42F1-BC9D-7676C80EC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F6E3E5-6DA9-4247-8EFE-5AD38B634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CF5D3-A2A3-47D0-974E-0CD907133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A98FFF-3625-4020-A41E-3609D249D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7B6768-8185-47E5-8E65-C6134EB16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A08E68-3B07-4728-91D3-94444746B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412810-6A83-4A92-8DFE-35FC5FA39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A55720-3176-48D3-91EB-6308029EE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BC2F2A-C8C1-4432-AEF7-C06E9ED7A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2CB013-67EC-4465-9703-3F4900FF1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6930C5-8B28-4868-94C4-380ECFDD1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B92263-1E4C-41B7-9400-C34719833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DD86CB-1D31-4F8E-B5F3-0CD3920A5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48014-C694-4F81-A1CD-16A0031E6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FA9FCF-3EE2-468E-98E2-3DB152B3C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CC90A8-4661-4B75-AF8D-66C7E7148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F93163-26B1-45C0-B525-2D438D7E3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1F9CA3-B934-4181-AAEC-D1B89C81A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8B1578-62FC-489F-A073-EB4AABE67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59B9A8-1A81-406D-9ED3-8319194F1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AE2A61-B023-4C36-B2EF-7D820F307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687E4C5-6F96-4106-9549-95DBC1D25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F13388F-76C7-4DED-815A-6502949BD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2E707FC-A77A-4005-A0DA-93349FE0E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69.xml"/><Relationship Id="rId8" Type="http://schemas.openxmlformats.org/officeDocument/2006/relationships/slideLayout" Target="../slideLayouts/slideLayout170.xml"/><Relationship Id="rId9" Type="http://schemas.openxmlformats.org/officeDocument/2006/relationships/slideLayout" Target="../slideLayouts/slideLayout171.xml"/><Relationship Id="rId10" Type="http://schemas.openxmlformats.org/officeDocument/2006/relationships/slideLayout" Target="../slideLayouts/slideLayout172.xml"/><Relationship Id="rId11" Type="http://schemas.openxmlformats.org/officeDocument/2006/relationships/slideLayout" Target="../slideLayouts/slideLayout173.xml"/><Relationship Id="rId12" Type="http://schemas.openxmlformats.org/officeDocument/2006/relationships/slideLayout" Target="../slideLayouts/slideLayout174.xml"/><Relationship Id="rId13" Type="http://schemas.openxmlformats.org/officeDocument/2006/relationships/slideLayout" Target="../slideLayouts/slideLayout175.xml"/><Relationship Id="rId14" Type="http://schemas.openxmlformats.org/officeDocument/2006/relationships/slideLayout" Target="../slideLayouts/slideLayout176.xml"/><Relationship Id="rId15" Type="http://schemas.openxmlformats.org/officeDocument/2006/relationships/slideLayout" Target="../slideLayouts/slideLayout177.xml"/><Relationship Id="rId16" Type="http://schemas.openxmlformats.org/officeDocument/2006/relationships/slideLayout" Target="../slideLayouts/slideLayout178.xml"/><Relationship Id="rId17" Type="http://schemas.openxmlformats.org/officeDocument/2006/relationships/slideLayout" Target="../slideLayouts/slideLayout179.xml"/><Relationship Id="rId18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E8F7D-EB62-45B0-B758-563F272633F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7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848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849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854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 type="dt" idx="28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 type="ftr" idx="29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 type="sldNum" idx="30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D2751-36F7-4D44-952B-512E9F038A5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6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897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905" name="PlaceHolder 1"/>
          <p:cNvSpPr>
            <a:spLocks noGrp="1"/>
          </p:cNvSpPr>
          <p:nvPr>
            <p:ph type="dt" idx="3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 type="ftr" idx="3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 type="sldNum" idx="3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A9BE5-13E3-4766-8004-348758B426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09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6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947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 type="dt" idx="3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 type="ftr" idx="3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 type="sldNum" idx="3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FDD84-DC74-43C5-B494-C0EEBA4D62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30E2D-00C0-4689-83B4-B19FB3EB48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5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 type="ftr" idx="4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PlaceHolder 3"/>
          <p:cNvSpPr>
            <a:spLocks noGrp="1"/>
          </p:cNvSpPr>
          <p:nvPr>
            <p:ph type="sldNum" idx="4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58124-8D5C-4DEB-80A3-06B9FFF709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4"/>
          <p:cNvSpPr>
            <a:spLocks noGrp="1"/>
          </p:cNvSpPr>
          <p:nvPr>
            <p:ph type="dt" idx="4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5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076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77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78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93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94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95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96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97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98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99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00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01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02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03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04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05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06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07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291" name="PlaceHolder 1"/>
          <p:cNvSpPr>
            <a:spLocks noGrp="1"/>
          </p:cNvSpPr>
          <p:nvPr>
            <p:ph type="sldNum" idx="4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3CC5A-7B56-412D-9D62-1D6C908689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PlaceHolder 2"/>
          <p:cNvSpPr>
            <a:spLocks noGrp="1"/>
          </p:cNvSpPr>
          <p:nvPr>
            <p:ph type="dt" idx="4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PlaceHolder 3"/>
          <p:cNvSpPr>
            <a:spLocks noGrp="1"/>
          </p:cNvSpPr>
          <p:nvPr>
            <p:ph type="ftr" idx="4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5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7"/>
    <p:sldLayoutId id="2147483832" r:id="rId8"/>
    <p:sldLayoutId id="2147483833" r:id="rId9"/>
    <p:sldLayoutId id="2147483834" r:id="rId10"/>
    <p:sldLayoutId id="2147483835" r:id="rId11"/>
    <p:sldLayoutId id="2147483836" r:id="rId12"/>
    <p:sldLayoutId id="2147483837" r:id="rId13"/>
    <p:sldLayoutId id="2147483838" r:id="rId14"/>
    <p:sldLayoutId id="2147483839" r:id="rId15"/>
    <p:sldLayoutId id="2147483840" r:id="rId16"/>
    <p:sldLayoutId id="2147483841" r:id="rId17"/>
    <p:sldLayoutId id="2147483842" r:id="rId18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32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1333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34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35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36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37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38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39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40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41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42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43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44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45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46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47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48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49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50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51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52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53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54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55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56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57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58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59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60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61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62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63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64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548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549" name="PlaceHolder 2"/>
          <p:cNvSpPr>
            <a:spLocks noGrp="1"/>
          </p:cNvSpPr>
          <p:nvPr>
            <p:ph type="dt" idx="4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" name="PlaceHolder 3"/>
          <p:cNvSpPr>
            <a:spLocks noGrp="1"/>
          </p:cNvSpPr>
          <p:nvPr>
            <p:ph type="ftr" idx="4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PlaceHolder 4"/>
          <p:cNvSpPr>
            <a:spLocks noGrp="1"/>
          </p:cNvSpPr>
          <p:nvPr>
            <p:ph type="sldNum" idx="4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76F1E-A517-4621-8076-B61B82290C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8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589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2" name="PlaceHolder 3"/>
          <p:cNvSpPr>
            <a:spLocks noGrp="1"/>
          </p:cNvSpPr>
          <p:nvPr>
            <p:ph type="ftr" idx="4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3" name="PlaceHolder 4"/>
          <p:cNvSpPr>
            <a:spLocks noGrp="1"/>
          </p:cNvSpPr>
          <p:nvPr>
            <p:ph type="sldNum" idx="5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7330E-87C7-4F12-8388-7E759DECE29B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4" name="PlaceHolder 5"/>
          <p:cNvSpPr>
            <a:spLocks noGrp="1"/>
          </p:cNvSpPr>
          <p:nvPr>
            <p:ph type="dt" idx="5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1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652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74" name="PlaceHolder 2"/>
          <p:cNvSpPr>
            <a:spLocks noGrp="1"/>
          </p:cNvSpPr>
          <p:nvPr>
            <p:ph type="dt" idx="5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5" name="PlaceHolder 3"/>
          <p:cNvSpPr>
            <a:spLocks noGrp="1"/>
          </p:cNvSpPr>
          <p:nvPr>
            <p:ph type="ftr" idx="5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6" name="PlaceHolder 4"/>
          <p:cNvSpPr>
            <a:spLocks noGrp="1"/>
          </p:cNvSpPr>
          <p:nvPr>
            <p:ph type="sldNum" idx="5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BE8F5-C81B-4462-8431-3FAA30B0672B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13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714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717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1718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19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20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21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22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23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24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25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26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27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28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29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30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1731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732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733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734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735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736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737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738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739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741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742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1743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44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45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46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47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1748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7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1" name="PlaceHolder 2"/>
          <p:cNvSpPr>
            <a:spLocks noGrp="1"/>
          </p:cNvSpPr>
          <p:nvPr>
            <p:ph type="dt" idx="55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2" name="PlaceHolder 3"/>
          <p:cNvSpPr>
            <a:spLocks noGrp="1"/>
          </p:cNvSpPr>
          <p:nvPr>
            <p:ph type="ftr" idx="5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3" name="PlaceHolder 4"/>
          <p:cNvSpPr>
            <a:spLocks noGrp="1"/>
          </p:cNvSpPr>
          <p:nvPr>
            <p:ph type="sldNum" idx="5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EBE75-2B5D-4578-A0D5-E7D6BD1861CC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4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08E5E-3DF0-420E-813F-214849A1826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91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1792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793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794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795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1796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97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98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99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00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01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02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03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04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05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06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07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08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1809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810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811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812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813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814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815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816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817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818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819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820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821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22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23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24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25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1826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827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828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29" name="PlaceHolder 2"/>
          <p:cNvSpPr>
            <a:spLocks noGrp="1"/>
          </p:cNvSpPr>
          <p:nvPr>
            <p:ph type="dt" idx="5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0" name="PlaceHolder 3"/>
          <p:cNvSpPr>
            <a:spLocks noGrp="1"/>
          </p:cNvSpPr>
          <p:nvPr>
            <p:ph type="ftr" idx="5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1" name="PlaceHolder 4"/>
          <p:cNvSpPr>
            <a:spLocks noGrp="1"/>
          </p:cNvSpPr>
          <p:nvPr>
            <p:ph type="sldNum" idx="6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59C68-8BA7-4D9B-8CD0-C574004D8D9E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12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214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216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17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218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223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22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4D29C-33AF-4E04-86B1-C349ED145E1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273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275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276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277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78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279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284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85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286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DC88E-E57C-4990-96C0-A9BF849D1B5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 type="ftr" idx="1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30802-AD3D-4EEC-90A2-1BDD631F1AC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5DCF2-76F4-4E6E-8AF8-8735A455402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4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415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416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grpSp>
          <p:nvGrpSpPr>
            <p:cNvPr id="429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430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dt" idx="1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334DF-F21F-47BA-9E33-BCFEF2B9D4E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6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607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608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grpSp>
          <p:nvGrpSpPr>
            <p:cNvPr id="621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622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 type="dt" idx="22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PlaceHolder 4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EDA11-D7A4-4967-B0A6-3C5BA9E19C2A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dt" idx="25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 type="sldNum" idx="26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FEAAF-675B-4F98-B517-1C1E83789F2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9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800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801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806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808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 type="ftr" idx="27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2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4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1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8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La Casa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69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r: Kasey Litchfor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3000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8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redits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5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0"/>
            </a:br>
            <a:r>
              <a:rPr b="0" lang="en-US" sz="10000" spc="-1" strike="noStrike">
                <a:solidFill>
                  <a:srgbClr val="ffffff"/>
                </a:solidFill>
                <a:latin typeface="Tahoma"/>
              </a:rPr>
              <a:t>Gracias Por La Visita! </a:t>
            </a:r>
            <a:endParaRPr b="0" lang="en-US" sz="10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5000" fill="hold"/>
                                        <p:tgtEl>
                                          <p:spTgt spid="18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5000" fill="hold"/>
                                        <p:tgtEl>
                                          <p:spTgt spid="18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5000" fill="hold"/>
                                        <p:tgtEl>
                                          <p:spTgt spid="18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5000" fill="hold"/>
                                        <p:tgtEl>
                                          <p:spTgt spid="18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La Cocin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ffffff"/>
                </a:solidFill>
                <a:latin typeface="Tahoma"/>
              </a:rPr>
              <a:t>Es una cocina. Es </a:t>
            </a:r>
            <a:r>
              <a:rPr b="0" lang="es-ES" sz="5600" spc="-1" strike="noStrike">
                <a:solidFill>
                  <a:srgbClr val="ffffff"/>
                </a:solidFill>
                <a:latin typeface="Tahoma"/>
              </a:rPr>
              <a:t>futurista y estupendo.</a:t>
            </a:r>
            <a:endParaRPr b="0" lang="en-US" sz="5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72" name="" descr=""/>
          <p:cNvPicPr/>
          <p:nvPr/>
        </p:nvPicPr>
        <p:blipFill>
          <a:blip r:embed="rId2"/>
          <a:stretch/>
        </p:blipFill>
        <p:spPr>
          <a:xfrm>
            <a:off x="4648320" y="1982880"/>
            <a:ext cx="4038480" cy="41130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newsflash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18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8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8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La Cas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7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165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eaeaea"/>
                </a:solidFill>
                <a:latin typeface="Arial"/>
              </a:rPr>
              <a:t>Es una casa. Es muy grande y </a:t>
            </a:r>
            <a:r>
              <a:rPr b="0" lang="es-ES" sz="6600" spc="-1" strike="noStrike">
                <a:solidFill>
                  <a:srgbClr val="eaeaea"/>
                </a:solidFill>
                <a:latin typeface="Arial"/>
              </a:rPr>
              <a:t>diferente.</a:t>
            </a:r>
            <a:endParaRPr b="0" lang="en-US" sz="66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875" name="" descr=""/>
          <p:cNvPicPr/>
          <p:nvPr/>
        </p:nvPicPr>
        <p:blipFill>
          <a:blip r:embed="rId1"/>
          <a:stretch/>
        </p:blipFill>
        <p:spPr>
          <a:xfrm>
            <a:off x="4645080" y="1598760"/>
            <a:ext cx="4037040" cy="446724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wheel spokes="2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8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8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8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8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8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El Comedor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7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11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8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ahoma"/>
              </a:rPr>
              <a:t>Es un comedor. Es muy nuevo.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78" name="" descr=""/>
          <p:cNvPicPr/>
          <p:nvPr/>
        </p:nvPicPr>
        <p:blipFill>
          <a:blip r:embed="rId1"/>
          <a:stretch/>
        </p:blipFill>
        <p:spPr>
          <a:xfrm>
            <a:off x="4651200" y="1599840"/>
            <a:ext cx="4191120" cy="4498920"/>
          </a:xfrm>
          <a:prstGeom prst="rect">
            <a:avLst/>
          </a:prstGeom>
          <a:ln w="0">
            <a:noFill/>
          </a:ln>
        </p:spPr>
      </p:pic>
      <p:pic>
        <p:nvPicPr>
          <p:cNvPr id="1879" name="" descr="futuristic-modular-table-and-chairs-design1"/>
          <p:cNvPicPr/>
          <p:nvPr/>
        </p:nvPicPr>
        <p:blipFill>
          <a:blip r:embed="rId2"/>
          <a:stretch/>
        </p:blipFill>
        <p:spPr>
          <a:xfrm>
            <a:off x="4648320" y="1600200"/>
            <a:ext cx="4190760" cy="449568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randomBar dir="horz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La Sala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41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18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Garamond"/>
              </a:rPr>
              <a:t>Es una sala. Es fabulosa y bella.</a:t>
            </a:r>
            <a:r>
              <a:rPr b="0" lang="en-US" sz="7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7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82" name="" descr=""/>
          <p:cNvPicPr/>
          <p:nvPr/>
        </p:nvPicPr>
        <p:blipFill>
          <a:blip r:embed="rId1"/>
          <a:stretch/>
        </p:blipFill>
        <p:spPr>
          <a:xfrm>
            <a:off x="4645080" y="1600200"/>
            <a:ext cx="4041720" cy="452268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diamond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55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18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8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898" fill="hold"/>
                                        <p:tgtEl>
                                          <p:spTgt spid="18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El Ba</a:t>
            </a:r>
            <a:r>
              <a:rPr b="0" lang="en-US" sz="4400" spc="-1" strike="noStrike">
                <a:solidFill>
                  <a:srgbClr val="dfdef6"/>
                </a:solidFill>
                <a:latin typeface="Arial"/>
                <a:ea typeface="Arial"/>
              </a:rPr>
              <a:t>ñ</a:t>
            </a: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o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8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4172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65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Es un ba</a:t>
            </a:r>
            <a:r>
              <a:rPr b="0" lang="en-US" sz="6600" spc="-1" strike="noStrike">
                <a:solidFill>
                  <a:srgbClr val="ffffff"/>
                </a:solidFill>
                <a:latin typeface="Arial"/>
                <a:ea typeface="Arial"/>
              </a:rPr>
              <a:t>ñ</a:t>
            </a: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o. Es bonita,es no increible.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85" name="" descr=""/>
          <p:cNvPicPr/>
          <p:nvPr/>
        </p:nvPicPr>
        <p:blipFill>
          <a:blip r:embed="rId2"/>
          <a:stretch/>
        </p:blipFill>
        <p:spPr>
          <a:xfrm>
            <a:off x="4645080" y="1600200"/>
            <a:ext cx="4041720" cy="45306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pull dir="l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800"/>
                                        <p:tgtEl>
                                          <p:spTgt spid="18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800" fill="hold"/>
                                        <p:tgtEl>
                                          <p:spTgt spid="18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800" fill="hold"/>
                                        <p:tgtEl>
                                          <p:spTgt spid="18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800" fill="hold"/>
                                        <p:tgtEl>
                                          <p:spTgt spid="18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18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8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8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El Cuarto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322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Es un cuarto. Es no viejo.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88" name="" descr=""/>
          <p:cNvPicPr/>
          <p:nvPr/>
        </p:nvPicPr>
        <p:blipFill>
          <a:blip r:embed="rId1"/>
          <a:stretch/>
        </p:blipFill>
        <p:spPr>
          <a:xfrm>
            <a:off x="4913280" y="1905120"/>
            <a:ext cx="3932280" cy="418788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wedge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8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8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8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18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8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8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8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18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El Patio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0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4041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Es un patio. Es pequena, es no grande.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91" name="" descr=""/>
          <p:cNvPicPr/>
          <p:nvPr/>
        </p:nvPicPr>
        <p:blipFill>
          <a:blip r:embed="rId2"/>
          <a:stretch/>
        </p:blipFill>
        <p:spPr>
          <a:xfrm>
            <a:off x="4645080" y="1905120"/>
            <a:ext cx="3744720" cy="411156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pull dir="ld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18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8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898" fill="hold"/>
                                        <p:tgtEl>
                                          <p:spTgt spid="18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18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8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898" fill="hold"/>
                                        <p:tgtEl>
                                          <p:spTgt spid="18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El Jardi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Verdana"/>
              </a:rPr>
              <a:t>Es un jardin. Es lujoso y modeno.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94" name="" descr=""/>
          <p:cNvPicPr/>
          <p:nvPr/>
        </p:nvPicPr>
        <p:blipFill>
          <a:blip r:embed="rId1"/>
          <a:stretch/>
        </p:blipFill>
        <p:spPr>
          <a:xfrm>
            <a:off x="4724280" y="1600200"/>
            <a:ext cx="3886200" cy="449568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blinds dir="horz"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1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18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1T17:46:12Z</dcterms:created>
  <dc:creator>litchfordkas</dc:creator>
  <dc:description/>
  <dc:language>en-US</dc:language>
  <cp:lastModifiedBy>Litchfordkas</cp:lastModifiedBy>
  <dcterms:modified xsi:type="dcterms:W3CDTF">2011-10-26T13:52:10Z</dcterms:modified>
  <cp:revision>8</cp:revision>
  <dc:subject/>
  <dc:title>La Casa</dc:title>
</cp:coreProperties>
</file>